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6C7-8F31-4D1B-BEDE-B4D68D47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787-BB10-493E-986B-971D8CF4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B0A-36C5-49D7-B7A6-98BF531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B5F-1CC4-4B0E-897B-E83810B0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B15-39F2-49A8-9F4C-984EF7B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D1DC-2D6E-48A9-A40F-B3DEFC0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04FA-4496-46D7-9C96-39B9C71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774C-0F96-47B1-8344-6916A52A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E70-9DD6-4806-8636-BC6B011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827-3054-43C5-A52A-58967B6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053F-9463-4B7F-B6EF-EEE8AB7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23B-0F37-40F6-8800-7B386075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0B71-A8DC-4FB0-8C71-520CDD8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AECD-4431-48A3-8627-DA5D6FD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DA4-27A8-4DDD-9119-C885048A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354A-7305-446C-A7DE-0672EA79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57A4-2AB2-4B16-8334-A29AF7F6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C94-2605-4A3C-9C2D-EBCA23A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915-BC43-4AB1-BADF-28C286A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C69-4477-47C6-AF73-2BDA627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A96-BAC4-4E25-9320-7EE915E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A18-2F69-45AF-AB3C-3A085F6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FB9-58C9-4E61-B65A-ADD4E17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361-23F4-493A-AF8B-139A0DA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14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6DC-24ED-44C8-81A4-81C56322B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図 1" descr=""/>
          <p:cNvPicPr/>
          <p:nvPr/>
        </p:nvPicPr>
        <p:blipFill>
          <a:blip r:embed="rId2"/>
          <a:stretch/>
        </p:blipFill>
        <p:spPr>
          <a:xfrm>
            <a:off x="14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E40-C7D5-47D0-A5FA-1BD5BA9C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9159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85720" y="34290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02:21:32Z</dcterms:created>
  <dc:creator>Hirose Printing Company</dc:creator>
  <dc:description/>
  <dc:language>en-US</dc:language>
  <cp:lastModifiedBy>瀬尾淳</cp:lastModifiedBy>
  <dcterms:modified xsi:type="dcterms:W3CDTF">2014-09-17T10:21:06Z</dcterms:modified>
  <cp:revision>6</cp:revision>
  <dc:subject/>
  <dc:title>スライド 1</dc:title>
</cp:coreProperties>
</file>